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4.png" ContentType="image/png"/>
  <Override PartName="/ppt/media/image10.wmf" ContentType="image/x-wmf"/>
  <Override PartName="/ppt/media/image25.png" ContentType="image/png"/>
  <Override PartName="/ppt/media/image3.png" ContentType="image/png"/>
  <Override PartName="/ppt/media/image11.wmf" ContentType="image/x-wmf"/>
  <Override PartName="/ppt/media/image26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14.png" ContentType="image/png"/>
  <Override PartName="/ppt/media/image9.wmf" ContentType="image/x-wmf"/>
  <Override PartName="/ppt/media/image30.png" ContentType="image/png"/>
  <Override PartName="/ppt/media/image31.png" ContentType="image/png"/>
  <Override PartName="/ppt/media/image2.png" ContentType="image/png"/>
  <Override PartName="/ppt/media/image32.png" ContentType="image/png"/>
  <Override PartName="/ppt/media/image1.jpeg" ContentType="image/jpeg"/>
  <Override PartName="/ppt/media/image5.wmf" ContentType="image/x-wmf"/>
  <Override PartName="/ppt/media/image4.png" ContentType="image/png"/>
  <Override PartName="/ppt/media/image27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88CE5-2A35-4608-AD28-1351D602B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C48BF-4F0D-490D-A31E-6E609A2B7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9D971-0A82-4A94-8809-42607894F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lined examples are the ones that have mutated plurals in modern English: man to men, foot to feet, mouse to m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tooth, goose, louse, and woman, broc &gt; bree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8935B-86E8-4A5E-9888-BBD05DF90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on inflectional ending was –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was the second most common way to form the plural, but now the s plural has taken 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B5170-871C-4AD5-85CB-90B4A58C7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some examples of words that used to use n as the plural marker even up to the beginning of the modern English peri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thren and Kine are two archaic words that are still used in modern Englis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2554D-99E7-4D60-9593-E3D5F9E30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29A83-AE47-4A55-A478-326EC64FE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33C1C-2990-4A64-B21C-742BE6298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95277-CFD2-44CB-81DF-154960145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roup was more frequently used. Note that there are apparently mistakes in the boo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’ developed from masculine nominative ‘se’, by analogy the s changed to 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’ developed from neuter nom-acc 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þæ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F3A3-A939-4C50-AD11-06973623D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volved in the Middle English period becaus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þās was so similar to þ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33A45-8E3E-43DB-B95D-B274EFB34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F398F-FB27-4759-BBFF-7E7771797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3CB8B-7C66-42A5-BFE7-F2ED79547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5E34C-275A-42BE-9B88-2E6F7BDCE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61520-530F-40AF-A336-C9AD413E9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1EA2-766B-4FE7-810A-E131A1C35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E9641-C032-40CF-B399-750E1D65E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72805-0550-4053-863B-5F90DB165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9DB38-AF67-41A0-856B-5225A2A63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55641-6EF6-4285-8CB8-6C26E493F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557EF-DC0E-42CA-941C-3E8E16CEA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3DF1A-09F7-498C-89DC-994005ABE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A6C4A-8268-40F5-AD7C-1C739C409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40EA9-F5FB-4AFA-97CE-6307CAA7C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52C1B-1066-4B9D-894C-BE4960990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 only appears in the third person singular fo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c and Fem became to similar, so fem changed to she, maybe from the fem demonstrative s</a:t>
            </a:r>
            <a:r>
              <a:rPr b="0" i="1" lang="en-US" sz="1200" spc="-1" strike="noStrike">
                <a:solidFill>
                  <a:srgbClr val="0000ff"/>
                </a:solidFill>
                <a:latin typeface="Arial"/>
                <a:ea typeface="Times New Roman"/>
              </a:rPr>
              <a:t>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t lost the h, very common for unstressed wor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her his book &gt; Give er is 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se her up &gt; Razor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b her gloves &gt; rubber glo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is a modern word. Formed by analogy. It + possessive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ural them, their, they is of Scandinavian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5E82A-F0D1-445C-A707-CFB97764C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used as the relative prono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603AD-0AF6-4816-B8AC-21C421B72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DD134-11BE-4E38-B0CF-80D3876C1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0204A-CA34-4749-A979-E23BAF07C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13406-8066-4401-8BAC-0347DCBEA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6879F-3614-4D43-BA51-DB052B4D0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B9963-3FA9-4598-B976-81ED89A69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B838C-73FA-4496-8D2C-67662ACFF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357AE-CD47-4810-B808-3688E7BA7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D80F4-4A94-4C1B-905A-C58409D4D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3DA7D-5AF5-423D-ABDC-512FDFAEC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AE180-6295-4B68-9EDF-72AE19BED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57A82-DAD4-4381-99BB-821E52E91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6331F-FFC0-4E5A-8446-CD8457B1C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25E08-7804-44B1-8081-8DA686421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8F792-F799-4994-B777-AD992D5AB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2A271-64DE-4E56-9054-9454FE5DB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5A336-3157-47CF-861D-F44ADE7C3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A066E-C851-4CD7-ACE5-7613D7921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1D8DC-82E5-45E9-BF7F-340BC851F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king was swi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shop was d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sh swan under the st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king loves the qu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queen loves the 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shop heard the qu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king was kissed by the queen. The queen kisses the 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scop led the ho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3FC35-CC76-4C49-827F-02F7061D5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ot vowel nou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egular verbs from strong ve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ve: new borrowed words all use plural s and ed past t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nouns are changed, maybe because all those h pronouns were so confu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D4594-BBA6-49F7-8107-AD856E340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FAF2F-7FE7-4443-A1A1-C8ABBDBC9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30840-1434-4E69-9C00-2B628EECD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787A6-3A91-4E7B-AF84-78FA13A85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B84C7-4D67-4464-993D-6197C4536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309D4-FBA5-4360-8401-0D880FC19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73B75-50D3-4AAB-AB09-9257472EC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half the commonly used nouns wer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essive s comes from Genitive Singular inf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ral s comes from Nom-Acc Masculine Plural inf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er Long Plurals lost the inflectional ending, leading to our words in which the plural is the same as the singula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75446-730E-45F1-8A1C-430938938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8DD70-45E7-4279-AE34-291DC8EE4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D50B3-616F-475C-B63B-1A0489E6C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5F600-8844-4255-8370-D65AA58D6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8C7B3-C5CA-4BDA-B128-D37ADC3C5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499EE-3F5F-49CE-B572-B4624C9B0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78EBC-E8AD-4F3F-9B58-7F883903D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one third of commonly used nouns were feminin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ō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feminine nouns were found in i-stems or u-stems decl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with long vowels, the nominative singular version had no inflectional end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49383-39F9-4188-8D68-41B61AB4E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ew nouns are in the r-stem declension. These nouns formed the plural by adding an r after the roo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ren is originally from this group. But our modern plural form of children combines the r-stem plural with the n-stem (or weak noun) plu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 uses root-consonant stems, but other names for this group are mutated plurals, vowel mutation, athematic nou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owel in the root changed due to i-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because in the original form of the word, there was a suffix that had an ‘i’ in it. This suffix was lost, but the mutated vowel remai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EE1A0-D8F0-4F76-AB2B-39815F039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FEFF-5D30-4E7B-B26A-834D2532E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C94D-78AD-4940-9F51-7459A04D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02F1-A63E-4B34-AAE9-73E3225EB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CE88-4481-4C83-9EEC-837CB1E24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3B8F7-0681-4F49-A5C3-3627A84BE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3FE71-583B-4B76-A0B1-BE249D44A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FF4D9-478E-4D00-BCC5-15BB73E7F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DD7A1-4754-422A-AF86-D3EB3F61E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8CECE-C1E4-48D1-94EF-65A8BA8B6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A7162-E268-4D23-933F-010F015B4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BA5F0-786E-4432-BC67-7314CBE3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F0BF-6EF7-46EC-A172-32813A7F8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F1E28-2070-4A68-BD8D-AA429888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21894-EF95-4C94-905B-4D3241F2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BCAD7-7C83-4E7C-AEED-9F5288182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F0234-F6C9-4F9A-B4D0-B8489EDD1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81728-9380-460E-B3A3-6EF7E73A2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2A73-0D9D-4DF0-B233-EE39505ED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7E0E-7F59-451E-91B5-52CBC461A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FCFE-08EA-4AF8-A781-4660F3B85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C42E-C544-4774-A018-58D2D25DD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587B-0DA9-47C6-B4F9-26365FC3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4459-E383-4917-B7E0-3A7D67CE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E13F-523B-4581-84EA-28B3AF10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" name="Picture 3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4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55671-F09A-4CA4-8966-E3474806198E}" type="slidenum">
              <a:rPr b="0" lang="en-US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5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E4D9F-F661-45DC-B965-88E591857B85}" type="slidenum">
              <a:rPr b="0" lang="en-US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The Origins and Development of the English Language Chapter 5: The Old English Period, Part 3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hn Alg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hael Che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ional Chengchi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i-mutation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1" i="1" lang="en-US" sz="2800" spc="-1" strike="noStrike" u="sng">
                <a:solidFill>
                  <a:srgbClr val="482400"/>
                </a:solidFill>
                <a:uFillTx/>
                <a:latin typeface="Times New Roman"/>
              </a:rPr>
              <a:t>a &gt; e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(framian &gt; fremma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  æ &gt; e (tælian &gt; tella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  á &gt; æ' (lárian&gt;læ'ra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1" i="1" lang="en-US" sz="2800" spc="-1" strike="noStrike" u="sng">
                <a:solidFill>
                  <a:srgbClr val="482400"/>
                </a:solidFill>
                <a:uFillTx/>
                <a:latin typeface="Times New Roman"/>
              </a:rPr>
              <a:t>o &gt; e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(ofstian &gt; efsta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1" i="1" lang="en-US" sz="2800" spc="-1" strike="noStrike" u="sng">
                <a:solidFill>
                  <a:srgbClr val="482400"/>
                </a:solidFill>
                <a:uFillTx/>
                <a:latin typeface="Times New Roman"/>
              </a:rPr>
              <a:t>ó &gt; é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(dómian &gt; déma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  u &gt; y (fullian &gt; fylla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1" i="1" lang="en-US" sz="2800" spc="-1" strike="noStrike" u="sng">
                <a:solidFill>
                  <a:srgbClr val="482400"/>
                </a:solidFill>
                <a:uFillTx/>
                <a:latin typeface="Times New Roman"/>
              </a:rPr>
              <a:t>ú &gt; ý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(cúþian &gt; cýþa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  ea &gt; ie (earmiþu &gt; iermþu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  éa &gt; íe (geléafian &gt; gelíefa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  eo &gt; ie (afeorrian &gt; afierran, afyrra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  éo &gt; íe (getréowi &gt; getríewe, getrív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Nouns: weak nouns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graphicFrame>
        <p:nvGraphicFramePr>
          <p:cNvPr id="119" name="Object 3"/>
          <p:cNvGraphicFramePr/>
          <p:nvPr/>
        </p:nvGraphicFramePr>
        <p:xfrm>
          <a:off x="1069920" y="1790640"/>
          <a:ext cx="1124604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9920" y="1790640"/>
                    <a:ext cx="112460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Nouns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yen, housen, shoen, tr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br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þer &gt;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br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þer &gt; 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h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ū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gt; c</a:t>
            </a:r>
            <a:r>
              <a:rPr b="0" lang="en-US" sz="2800" spc="-1" strike="noStrike">
                <a:solidFill>
                  <a:srgbClr val="000000"/>
                </a:solidFill>
                <a:latin typeface="Charis SIL"/>
              </a:rPr>
              <a:t>ȳ &gt;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Mutated vowels? Irregular Plurals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modern English words are plurals with mutated vowel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 &gt; men, woman &gt; wo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ot &gt; feet, goose &gt; geese, tooth &gt; tee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use &gt; mice, louse &gt; l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x &gt; ox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other &gt; breth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&gt; breec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ld &gt; children, 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ū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gt; k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OE noun declension summary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graphicFrame>
        <p:nvGraphicFramePr>
          <p:cNvPr id="126" name="Object 3"/>
          <p:cNvGraphicFramePr/>
          <p:nvPr/>
        </p:nvGraphicFramePr>
        <p:xfrm>
          <a:off x="-762120" y="1287360"/>
          <a:ext cx="11201400" cy="529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2120" y="1287360"/>
                    <a:ext cx="11201400" cy="52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Modifiers: Demonstratives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nstrative showed concord with the number and gender (when singular) of the noun they were modifyin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Modifiers: = Definite article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graphicFrame>
        <p:nvGraphicFramePr>
          <p:cNvPr id="131" name="Object 3"/>
          <p:cNvGraphicFramePr/>
          <p:nvPr/>
        </p:nvGraphicFramePr>
        <p:xfrm>
          <a:off x="1143000" y="1371600"/>
          <a:ext cx="12153960" cy="516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371600"/>
                    <a:ext cx="12153960" cy="51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Modifiers: 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graphicFrame>
        <p:nvGraphicFramePr>
          <p:cNvPr id="134" name="Object 4"/>
          <p:cNvGraphicFramePr/>
          <p:nvPr/>
        </p:nvGraphicFramePr>
        <p:xfrm>
          <a:off x="1074600" y="1422360"/>
          <a:ext cx="12315960" cy="523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4600" y="1422360"/>
                    <a:ext cx="12315960" cy="523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Modifiers: Adjectives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ectives were inflected for case, number and ge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ad weak and strong declen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Modifiers: Adjectives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ak used after demonstratives and possessive pronouns (when the noun was defini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 ealda man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the old man, that old man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īn ealda frēon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my old frie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ong used with indefinite nouns or when it isn’t right next to the definite no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 mann is ea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the man is old’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alde men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old men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Grammar, Concord, Inflection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uns, Modifiers, Verbs are infl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s of speech have concord based on their Gender, Number, C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uns and their Modifiers have declensions. They are decli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bs have conjugations. They are conjugat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Strong declension of </a:t>
            </a:r>
            <a:br>
              <a:rPr sz="4000"/>
            </a:b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‘good man’ (guman is an n-stem)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066680" y="1752480"/>
          <a:ext cx="7772400" cy="4114800"/>
        </p:xfrm>
        <a:graphic>
          <a:graphicData uri="http://schemas.openxmlformats.org/drawingml/2006/table">
            <a:tbl>
              <a:tblPr/>
              <a:tblGrid>
                <a:gridCol w="990720"/>
                <a:gridCol w="3200400"/>
                <a:gridCol w="358128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ul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u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ō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 gu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ō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 gu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ō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ne gu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ō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 gu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ō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 gu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ō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a gume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ō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m gu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ō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m gumu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ōde gu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Weak declension of </a:t>
            </a:r>
            <a:br>
              <a:rPr sz="4000"/>
            </a:b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‘good man’ (n-stem noun)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066680" y="1752480"/>
          <a:ext cx="7772400" cy="4373640"/>
        </p:xfrm>
        <a:graphic>
          <a:graphicData uri="http://schemas.openxmlformats.org/drawingml/2006/table">
            <a:tbl>
              <a:tblPr/>
              <a:tblGrid>
                <a:gridCol w="990720"/>
                <a:gridCol w="3200400"/>
                <a:gridCol w="358128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ul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u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 g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ō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 gu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þā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ō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 gu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þ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 g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ō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 gu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þā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ō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 gu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þæs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ō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 gu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þāra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ō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a (g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ōd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a) gume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þ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Charis SIL"/>
                        </a:rPr>
                        <a:t>ǣm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ō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 gu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þ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Charis SIL"/>
                        </a:rPr>
                        <a:t>ǣm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ō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m gumu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þ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Charis SIL"/>
                        </a:rPr>
                        <a:t>ȳ g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ō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Charis SIL"/>
                        </a:rPr>
                        <a:t>dan guma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Adjectives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ative and Superlative versions of adjectives were formed by adding -ra or -ost to the adj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a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poor)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&gt; earmra &gt; earmo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læc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lack)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&gt; blæcra &gt; blaco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Adjectives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adjectives had mutations in their root vowels when their comparative and superlative forms were c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al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old)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&gt; yldra &gt; yld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ld &gt; eldra &gt; eldest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trong &gt; strengra &gt; strenge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ong &gt; lengra &gt; lenge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eo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young)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&gt; gingra &gt; ginge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Adjectives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were some adjectives with irregular comparative and superlative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ō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good)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– bet(e)ra – betst (or 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ē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ra - 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ē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est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fe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bad)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- wiersa - wiere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ice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uch)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- m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a - m</a:t>
            </a:r>
            <a:r>
              <a:rPr b="0" lang="en-US" sz="2800" spc="-1" strike="noStrike">
                <a:solidFill>
                  <a:srgbClr val="000000"/>
                </a:solidFill>
                <a:latin typeface="Charis SIL"/>
              </a:rPr>
              <a:t>ǣ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400" spc="-1" strike="noStrike">
                <a:solidFill>
                  <a:srgbClr val="000000"/>
                </a:solidFill>
                <a:latin typeface="Charis SIL"/>
              </a:rPr>
              <a:t>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e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ttle)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- l</a:t>
            </a:r>
            <a:r>
              <a:rPr b="0" lang="en-US" sz="2800" spc="-1" strike="noStrike">
                <a:solidFill>
                  <a:srgbClr val="000000"/>
                </a:solidFill>
                <a:latin typeface="Charis SIL"/>
              </a:rPr>
              <a:t>ǣ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sa - l</a:t>
            </a:r>
            <a:r>
              <a:rPr b="0" lang="en-US" sz="2800" spc="-1" strike="noStrike">
                <a:solidFill>
                  <a:srgbClr val="000000"/>
                </a:solidFill>
                <a:latin typeface="Charis SIL"/>
              </a:rPr>
              <a:t>ǣ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e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far)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- fierra - fierrest, fyrre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ē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h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near)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- n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ē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rra - n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ī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hst, n</a:t>
            </a:r>
            <a:r>
              <a:rPr b="0" i="1" lang="en-US" sz="2400" spc="-1" strike="noStrike">
                <a:solidFill>
                  <a:srgbClr val="000000"/>
                </a:solidFill>
                <a:latin typeface="Charis SIL"/>
              </a:rPr>
              <a:t>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haris SIL"/>
              </a:rPr>
              <a:t>ǣ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arly)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Charis SIL"/>
              </a:rPr>
              <a:t>ǣ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ra - </a:t>
            </a:r>
            <a:r>
              <a:rPr b="0" lang="en-US" sz="2800" spc="-1" strike="noStrike">
                <a:solidFill>
                  <a:srgbClr val="000000"/>
                </a:solidFill>
                <a:latin typeface="Charis SIL"/>
              </a:rPr>
              <a:t>ǣ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before)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- furþra - fyre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first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babaev.tripod.com/archive/grammar42.html#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Adjectives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superlatives were formed with an alternative suffix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–(u)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ma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ut the m lost it superlative force, so –est was added al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est, midmest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est, inneme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words were misunderstood as meaning m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emost, midmost, utmost, in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have a productive suffix in modern Engl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permost, furthermost, top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Adjectives: suffixes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-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group "adjective stem + substantive stem") -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icelhéafde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large-headed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-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h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from substantives with mutation) -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þirnih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thorny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-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from substantives with mutation) -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áli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holy)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isti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misty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-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, -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with mutation) -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gyld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golden)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wyll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wóllen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 -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s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nationality) -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glisc, Welisc, mennis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human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. -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u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from stems of verbs, adjectives, substantives) -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ibbsu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peaceful)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íersu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obedient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. -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eal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from stems of numerals, adjectives) -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þríefeal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threefol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. -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u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from abstract substantive stems) -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orgfu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sorrowfu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. -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léá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from verbal and nominal stems) -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læpléá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sleepless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. -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lí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from substantive and adjective stems) -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orþlí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earthly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. -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wea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from adjective, substantive, adverb stems) -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nnewea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internal)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ámwea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homeward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buSzPct val="32901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ttp://babaev.tripod.com/archive/grammar42.html#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Pronouns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ill very complex in modern Engl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OE Personal Pronouns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066680" y="1752480"/>
          <a:ext cx="7772400" cy="41148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ul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u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rst pers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 tw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ē, me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c (unci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ū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(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ū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c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ī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c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ūre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ū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ū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Second person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066680" y="1752480"/>
          <a:ext cx="7772400" cy="43736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ul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u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cond pers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 tw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þū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þē (þec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c (inci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ēow (ēowic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þī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c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ēow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þ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ē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Nouns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: Singular, Plu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der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sculine (5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minine (3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uter (2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ts of confusion especially when Scandinavian words are mixed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Third person: he, it, she, they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066680" y="1752480"/>
          <a:ext cx="7772400" cy="4206960"/>
        </p:xfrm>
        <a:graphic>
          <a:graphicData uri="http://schemas.openxmlformats.org/drawingml/2006/table">
            <a:tbl>
              <a:tblPr/>
              <a:tblGrid>
                <a:gridCol w="838440"/>
                <a:gridCol w="1295280"/>
                <a:gridCol w="1371600"/>
                <a:gridCol w="1981080"/>
                <a:gridCol w="2286000"/>
              </a:tblGrid>
              <a:tr h="6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u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h</a:t>
                      </a: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cc33"/>
                          </a:solidFill>
                          <a:latin typeface="Times New Roman"/>
                        </a:rPr>
                        <a:t>h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h</a:t>
                      </a:r>
                      <a:r>
                        <a:rPr b="0" i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ēo, hīe, </a:t>
                      </a:r>
                      <a:r>
                        <a:rPr b="0" i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h</a:t>
                      </a:r>
                      <a:r>
                        <a:rPr b="0" i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ī, </a:t>
                      </a:r>
                      <a:r>
                        <a:rPr b="0" i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h</a:t>
                      </a:r>
                      <a:r>
                        <a:rPr b="0" i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īo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hīe,</a:t>
                      </a:r>
                      <a:r>
                        <a:rPr b="0" i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 h</a:t>
                      </a:r>
                      <a:r>
                        <a:rPr b="0" i="1" lang="en-US" sz="28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ī, h</a:t>
                      </a:r>
                      <a:r>
                        <a:rPr b="0" i="1" lang="en-US" sz="2400" spc="-1" strike="noStrike">
                          <a:solidFill>
                            <a:srgbClr val="cc3300"/>
                          </a:solidFill>
                          <a:latin typeface="Charis SIL"/>
                        </a:rPr>
                        <a:t>ȳ,</a:t>
                      </a:r>
                      <a:r>
                        <a:rPr b="0" i="1" lang="en-US" sz="28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h</a:t>
                      </a:r>
                      <a:r>
                        <a:rPr b="0" i="1" lang="en-US" sz="28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ī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cc33"/>
                          </a:solidFill>
                          <a:latin typeface="Times New Roman"/>
                        </a:rPr>
                        <a:t>h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ī, hīe, h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Charis SIL"/>
                        </a:rPr>
                        <a:t>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hīe,</a:t>
                      </a:r>
                      <a:r>
                        <a:rPr b="0" i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 h</a:t>
                      </a:r>
                      <a:r>
                        <a:rPr b="0" i="1" lang="en-US" sz="28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ī, h</a:t>
                      </a:r>
                      <a:r>
                        <a:rPr b="0" i="1" lang="en-US" sz="2400" spc="-1" strike="noStrike">
                          <a:solidFill>
                            <a:srgbClr val="cc3300"/>
                          </a:solidFill>
                          <a:latin typeface="Charis SIL"/>
                        </a:rPr>
                        <a:t>ȳ,</a:t>
                      </a:r>
                      <a:r>
                        <a:rPr b="0" i="1" lang="en-US" sz="28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h</a:t>
                      </a:r>
                      <a:r>
                        <a:rPr b="0" i="1" lang="en-US" sz="28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ī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cc33"/>
                          </a:solidFill>
                          <a:latin typeface="Times New Roman"/>
                        </a:rPr>
                        <a:t>h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re, hiere, hy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hira, hiera, heo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re, hiere, hy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him, he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Interrogative Pronouns (singular)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066680" y="1752480"/>
          <a:ext cx="7772400" cy="4114800"/>
        </p:xfrm>
        <a:graphic>
          <a:graphicData uri="http://schemas.openxmlformats.org/drawingml/2006/table">
            <a:tbl>
              <a:tblPr/>
              <a:tblGrid>
                <a:gridCol w="1067040"/>
                <a:gridCol w="2971800"/>
                <a:gridCol w="373356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c/F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hw</a:t>
                      </a: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ā (who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hwæt (wha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w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hwæ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hwæs (whos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hwǣm, hwām    (who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Charis SIL"/>
                        </a:rPr>
                        <a:t>hwȳ, hwī (why)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Charis SIL"/>
                        </a:rPr>
                        <a:t> hw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Verbs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English has regular and irregular verb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the featur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Verbs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ld English ha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ong Verb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out 300 of the most common verb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and PP with a vowe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k Ver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and PP with a dental suffix (t or 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Ver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letive Verbs: be, go,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erit-Present Verbs: Now our mod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Verbs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ong 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 classes based on the vowel chang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initive &gt; past sing &gt; past plural &gt; p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ee Millward 10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bs are also conjug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ee Millward 10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71" name="Content Placeholder 3" descr=""/>
          <p:cNvPicPr/>
          <p:nvPr/>
        </p:nvPicPr>
        <p:blipFill>
          <a:blip r:embed="rId1"/>
          <a:stretch/>
        </p:blipFill>
        <p:spPr>
          <a:xfrm>
            <a:off x="914400" y="243000"/>
            <a:ext cx="7699320" cy="65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73" name="Content Placeholder 3" descr=""/>
          <p:cNvPicPr/>
          <p:nvPr/>
        </p:nvPicPr>
        <p:blipFill>
          <a:blip r:embed="rId1"/>
          <a:stretch/>
        </p:blipFill>
        <p:spPr>
          <a:xfrm>
            <a:off x="1095480" y="76320"/>
            <a:ext cx="7467480" cy="65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75" name="Content Placeholder 3" descr=""/>
          <p:cNvPicPr/>
          <p:nvPr/>
        </p:nvPicPr>
        <p:blipFill>
          <a:blip r:embed="rId1"/>
          <a:stretch/>
        </p:blipFill>
        <p:spPr>
          <a:xfrm>
            <a:off x="317520" y="530280"/>
            <a:ext cx="8648640" cy="52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Verbs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ak 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d a dental suff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also had a vowel 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Old English Weak Verbs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79" name="Content Placeholder 3" descr=""/>
          <p:cNvPicPr/>
          <p:nvPr/>
        </p:nvPicPr>
        <p:blipFill>
          <a:blip r:embed="rId1"/>
          <a:stretch/>
        </p:blipFill>
        <p:spPr>
          <a:xfrm>
            <a:off x="311040" y="1905120"/>
            <a:ext cx="891864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Nouns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ong and Weak nou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ong nouns were more com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ong nouns can be broken into groups according to their distinct inflectional end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ak nouns more general inflectional endings. Sometimes call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Verbs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81" name="Picture 3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7724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Verbs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83" name="Picture 3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772400" cy="57787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"/>
          <p:cNvPicPr/>
          <p:nvPr/>
        </p:nvPicPr>
        <p:blipFill>
          <a:blip r:embed="rId2"/>
          <a:stretch/>
        </p:blipFill>
        <p:spPr>
          <a:xfrm>
            <a:off x="1143000" y="5181480"/>
            <a:ext cx="17928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772400" cy="1143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"/>
          <p:cNvPicPr/>
          <p:nvPr/>
        </p:nvPicPr>
        <p:blipFill>
          <a:blip r:embed="rId2"/>
          <a:stretch/>
        </p:blipFill>
        <p:spPr>
          <a:xfrm>
            <a:off x="1066680" y="1752480"/>
            <a:ext cx="3132360" cy="4572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"/>
          <p:cNvPicPr/>
          <p:nvPr/>
        </p:nvPicPr>
        <p:blipFill>
          <a:blip r:embed="rId3"/>
          <a:stretch/>
        </p:blipFill>
        <p:spPr>
          <a:xfrm>
            <a:off x="4191120" y="1754280"/>
            <a:ext cx="3581280" cy="78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7724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91" name="Picture 3" descr=""/>
          <p:cNvPicPr/>
          <p:nvPr/>
        </p:nvPicPr>
        <p:blipFill>
          <a:blip r:embed="rId1"/>
          <a:stretch/>
        </p:blipFill>
        <p:spPr>
          <a:xfrm>
            <a:off x="1066680" y="434880"/>
            <a:ext cx="769644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69644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Syntax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 order is not as important in OE because of the infl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Syntax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97" name="Picture 3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772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Syntax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99" name="Picture 3" descr=""/>
          <p:cNvPicPr/>
          <p:nvPr/>
        </p:nvPicPr>
        <p:blipFill>
          <a:blip r:embed="rId1"/>
          <a:stretch/>
        </p:blipFill>
        <p:spPr>
          <a:xfrm>
            <a:off x="1066680" y="434880"/>
            <a:ext cx="769644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Syntax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201" name="Picture 3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7724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Nouns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min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ludes voc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usative: expresses the object immediately affected by the action (what?), the direct objec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itive: expresses the possessive meaning: whose? of what? Also after the expression meaning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ull of , free of , worthy of , guilty of,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tc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ive: expresses the object towards which the action is directed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ter the after the verbs like "say to smb", "send smb", "give to smb"; "known to smb", "necessary for smth / smb", "close to smb", "peculiar for smth"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with prepositions in expressions like 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from the enemy, against the wind, on the sho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203" name="Picture 3" descr=""/>
          <p:cNvPicPr/>
          <p:nvPr/>
        </p:nvPicPr>
        <p:blipFill>
          <a:blip r:embed="rId1"/>
          <a:stretch/>
        </p:blipFill>
        <p:spPr>
          <a:xfrm>
            <a:off x="1066680" y="438120"/>
            <a:ext cx="7696440" cy="58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7724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Translation practice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se cyning 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æs swi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se bisco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æs dē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se fisc swam und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þæm stā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se cyning lufaþ þā cwē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sēo cwēn lufaþ þone cy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. se biscop 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īer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þ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wē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þone cyning cyseþ sēo cwē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þæt hors gel</a:t>
            </a:r>
            <a:r>
              <a:rPr b="0" lang="en-US" sz="2800" spc="-1" strike="noStrike">
                <a:solidFill>
                  <a:srgbClr val="000000"/>
                </a:solidFill>
                <a:latin typeface="Charis SIL"/>
              </a:rPr>
              <a:t>ǣdde se bisc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cCully &amp; Hilles. (2005). The Earliest English. p. 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209" name="Picture 3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7724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 you see retained in modern Englis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some features changed in modern Englis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æ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ī ē ð l</a:t>
            </a:r>
            <a:r>
              <a:rPr b="0" lang="en-US" sz="3200" spc="-1" strike="noStrike">
                <a:solidFill>
                  <a:srgbClr val="000000"/>
                </a:solidFill>
                <a:latin typeface="Charis SIL"/>
              </a:rPr>
              <a:t>ǣ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Pronunciation and Spelling: Vowels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wel length was a significant disti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conven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wr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cron over long vowel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ō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‘good’ vs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o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‘god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phonetic transcri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on after long vowels [go:d] vs. </a:t>
            </a:r>
            <a:r>
              <a:rPr b="0" lang="en-US" sz="2000" spc="-1" strike="noStrike">
                <a:solidFill>
                  <a:srgbClr val="000000"/>
                </a:solidFill>
                <a:latin typeface="Charis SIL"/>
              </a:rPr>
              <a:t>[gɒd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times Old English scribes marked long vowels with a slanting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Pronunciation and Spelling: Vowels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abb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hav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þæ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th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t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tt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i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ðð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ot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nd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nd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yll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il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0288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ā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ho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haris SIL"/>
              </a:rPr>
              <a:t>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 in </a:t>
            </a:r>
            <a:r>
              <a:rPr b="0" i="1" lang="en-US" sz="2800" spc="-1" strike="noStrike">
                <a:solidFill>
                  <a:srgbClr val="000000"/>
                </a:solidFill>
                <a:latin typeface="Charis SIL"/>
              </a:rPr>
              <a:t>dǣ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de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ēd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e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ī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īd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rid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ōd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oo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ū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ū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ou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haris SIL"/>
              </a:rPr>
              <a:t>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 in </a:t>
            </a:r>
            <a:r>
              <a:rPr b="0" i="1" lang="en-US" sz="2800" spc="-1" strike="noStrike">
                <a:solidFill>
                  <a:srgbClr val="000000"/>
                </a:solidFill>
                <a:latin typeface="Charis SIL"/>
              </a:rPr>
              <a:t>mȳ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i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Pronunciation and Spelling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Pronunciation and Spelling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Nouns: a-stems most common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graphicFrame>
        <p:nvGraphicFramePr>
          <p:cNvPr id="106" name="Object 3"/>
          <p:cNvGraphicFramePr/>
          <p:nvPr/>
        </p:nvGraphicFramePr>
        <p:xfrm>
          <a:off x="927000" y="1523880"/>
          <a:ext cx="8915400" cy="382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7000" y="1523880"/>
                    <a:ext cx="8915400" cy="38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Vocabulary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Vocabulary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Vocabulary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Verbs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772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232" name="Picture 3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7724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Nouns: </a:t>
            </a:r>
            <a:r>
              <a:rPr b="0" i="1" lang="en-US" sz="44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ō</a:t>
            </a: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-stems were Feminine 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graphicFrame>
        <p:nvGraphicFramePr>
          <p:cNvPr id="109" name="Object 3"/>
          <p:cNvGraphicFramePr/>
          <p:nvPr/>
        </p:nvGraphicFramePr>
        <p:xfrm>
          <a:off x="1069920" y="1447920"/>
          <a:ext cx="9656640" cy="490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9920" y="1447920"/>
                    <a:ext cx="9656640" cy="490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Nouns: r-stems, vowel mutation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graphicFrame>
        <p:nvGraphicFramePr>
          <p:cNvPr id="112" name="Object 4"/>
          <p:cNvGraphicFramePr/>
          <p:nvPr/>
        </p:nvGraphicFramePr>
        <p:xfrm>
          <a:off x="998640" y="1397160"/>
          <a:ext cx="9647280" cy="502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8640" y="1397160"/>
                    <a:ext cx="964728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i-mutation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-mut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nteresting feature changed many of Old English words on a very early stage of the language's history. It is caused by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or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n the next syllable, it affects all vowels, except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owels move from their back position to the new front one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babaev.tripod.com/archive/grammar41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5T05:59:23Z</dcterms:created>
  <dc:creator>M Cheng</dc:creator>
  <dc:description/>
  <dc:language>en-US</dc:language>
  <cp:lastModifiedBy>Michael Cheng</cp:lastModifiedBy>
  <dcterms:modified xsi:type="dcterms:W3CDTF">2015-04-10T00:38:03Z</dcterms:modified>
  <cp:revision>16</cp:revision>
  <dc:subject/>
  <dc:title>The Origins and Development of the English Language Chapter 5: The Old English Period, Part 3</dc:title>
</cp:coreProperties>
</file>